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10699750" cy="7556500"/>
  <p:notesSz cx="7556500" cy="10699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556400" cy="106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AutoShape 1"/>
          <p:cNvSpPr/>
          <p:nvPr/>
        </p:nvSpPr>
        <p:spPr>
          <a:xfrm>
            <a:off x="0" y="0"/>
            <a:ext cx="7556400" cy="1069992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9920"/>
              <a:gd name="textAreaBottom" fmla="*/ 10699560 h 10699920"/>
            </a:gdLst>
            <a:ahLst/>
            <a:rect l="textAreaLeft" t="textAreaTop" r="textAreaRight" b="textAreaBottom"/>
            <a:pathLst>
              <a:path w="21600" h="30585">
                <a:moveTo>
                  <a:pt x="4" y="0"/>
                </a:moveTo>
                <a:arcTo wR="4" hR="4" stAng="16200000" swAng="-5400000"/>
                <a:lnTo>
                  <a:pt x="0" y="30581"/>
                </a:lnTo>
                <a:arcTo wR="4" hR="4" stAng="10800000" swAng="-5400000"/>
                <a:lnTo>
                  <a:pt x="21596" y="3058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0" y="0"/>
            <a:ext cx="3274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dt" idx="22"/>
          </p:nvPr>
        </p:nvSpPr>
        <p:spPr>
          <a:xfrm>
            <a:off x="4280040" y="0"/>
            <a:ext cx="327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ldImg"/>
          </p:nvPr>
        </p:nvSpPr>
        <p:spPr>
          <a:xfrm>
            <a:off x="938160" y="802800"/>
            <a:ext cx="5678640" cy="4010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body"/>
          </p:nvPr>
        </p:nvSpPr>
        <p:spPr>
          <a:xfrm>
            <a:off x="755640" y="5083200"/>
            <a:ext cx="60436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0" y="10163160"/>
            <a:ext cx="3274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sldNum" idx="23"/>
          </p:nvPr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49CB72-055B-4A7D-9FEF-515AE2A6319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DA91E4-0700-431A-8C19-AEDF7E4B0FF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C67B53-43AE-494C-9419-ACDE0C46874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E43E5D-DDFC-4E1A-B7BB-D59847C6BB6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BEEA5B-F74E-44C3-93DF-CEC5E0BC146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BF6019-E85F-424B-86F4-45C091A11DA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A8365D-257D-4A54-849C-79063FAF724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3999-DDD2-4F88-8976-1C666240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B607-96F1-4805-9C82-90E1C025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4658-53DD-4DD0-8164-84C3E738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EA67-83D9-4746-9BA8-98F57F05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D012-5206-407E-9D13-7C2D0B8E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1EF2-2EAC-483C-843B-2313856C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9476-2409-4CC7-BC65-3FCEBD98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4BD7-3981-4525-BA55-0EDB8016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FBC2-460E-4E6A-B7A5-CCF2DFED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CC78-B303-4D15-A991-D072CCED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B75E-DC71-4854-943E-ED0C6757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B017-F800-4BAF-9F04-302684F5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4B39-C8E9-47C1-882B-87672532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77C1-3234-4129-B7E5-66FEA858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7B91-21C3-4F8D-AE1C-36F3C715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BCEB-9F02-4238-9023-17932F6E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3719-A868-4E70-8EFA-690C61BB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515EB-A354-4C09-9960-E1FA2F3A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7DF1A5-494B-4AE4-B5A2-874E6621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F672CC-36A9-42DB-8E60-EA5791D6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652B74-F665-47E6-A9ED-C29F3211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74FC6E-4FDF-43A4-971F-9C5B296D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4955-1F13-4C22-860E-B5BCC885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A8C58A-D4FF-4424-B998-C54C9E35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91CC4-01D6-449C-87B1-FE95B508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13DD3D-5013-46E9-B43F-85F227C7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D0B9DF-0F7B-4B43-A418-F4E176F6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0CD095-94A1-4F56-AC27-DB9D6F3E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A67AB8-6FEF-4C9F-B2DF-8F584821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20BA8A-F040-46D5-A56C-365DCB49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B5B1B-E2F6-4D21-AD8E-0DB64C47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A6648-2E43-4629-8E7D-AD9BFF2B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0B935-EFEA-446E-A39B-19C5F05B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7797-7E02-4F72-9865-543D5693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9811F-0091-4101-8F8A-ADE849EB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7E980-4F43-4206-B4E6-9D29D121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658C8-8EC3-4C87-830E-447C8391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CDF5A-B593-47B9-B48D-F1F439D8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C90BC-7D7C-4A01-8247-A0EC9585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54539-FE44-46BC-A74B-AEC072C1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CB261-8E11-4567-98CF-1804FF09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A5D2C-8117-4DD2-954B-19D3D8E2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4BA85-C43C-4C57-B8ED-0E3DA1F1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D038A2-4D82-4392-B298-4ACB5806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3AC0-C8DA-4B58-B57C-FD30439E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55530C-673E-488B-9016-BC3B61D8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2448BF-F9FE-4EE8-BB93-59BBEF8C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A8C0DA-6256-4812-ABAB-DE88DCA4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7540E5-F88D-421F-9C86-15BF6B18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07AAFA-579C-481B-98DF-D40FEDED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8E4B43-A74E-4B10-B0E0-8887F145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F9B05F-498C-4B49-95A4-8BF4FA14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0C7617-227E-473B-AEB9-A6D24A8F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7A0764-A829-4194-A411-8583229B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ED9B93-F833-4B2E-B591-E7434F05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9E98-9C02-4061-81A7-213EF550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20F2D2-3246-43EB-936D-897A3758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58850B-CB52-4495-B319-32CBA6BA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B325E7-9ACD-4EBD-9B6B-9531D6DA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FE52D4-1514-4075-9B91-14037BC1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DA475D-95FA-4C98-924A-C01BA150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0678D0-E86D-4BAE-A594-20605B7F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6C7248-B852-4817-B006-FB6BC449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99D079-386C-470E-9087-BED098F0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76384D-4864-48E9-A4C5-1560E474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E8F505-9CA0-4134-98B4-F01A63E9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30F7-2219-4398-A2CD-3E751F01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613632-C071-4E92-ACDB-692F75CB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FFBF10-D620-4558-BF92-5D28D227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E61920-CA3F-42DF-B7EC-0D333C67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599597-B9CF-4C70-8588-C1117B79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D5C9B2-8218-4C07-9063-48A3FB99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65764F-B69D-4D57-B22B-7AA3AE65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D3AF18-0D44-4B92-ACD7-1F037F59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8100EF-53E5-47B2-AB45-213FD67C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762489-CC35-4EF7-A57C-2608D8F8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90DB93-015D-4E15-B00A-480A49E6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F8AA-5BBC-47BD-A3D2-3570879E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A4A41E-4005-4C28-AFE9-1A35289D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A7C46B-A7DF-4F14-8625-D6F092AC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B094D3-DD99-4366-9651-BF554123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29710D-CD2C-413E-A952-E01E482E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8406C8-E003-4DCF-83C3-1E1704DB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EAB4-CBAC-4861-AA79-DC9B02DB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F8A672-AC47-4E76-A5CA-9A49CFCAB564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2"/>
          <p:cNvSpPr/>
          <p:nvPr/>
        </p:nvSpPr>
        <p:spPr>
          <a:xfrm>
            <a:off x="446040" y="0"/>
            <a:ext cx="712800" cy="75564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Retângulo 14"/>
          <p:cNvSpPr/>
          <p:nvPr/>
        </p:nvSpPr>
        <p:spPr>
          <a:xfrm>
            <a:off x="324000" y="0"/>
            <a:ext cx="122040" cy="75564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tângulo 16"/>
          <p:cNvSpPr/>
          <p:nvPr/>
        </p:nvSpPr>
        <p:spPr>
          <a:xfrm>
            <a:off x="1158840" y="0"/>
            <a:ext cx="212760" cy="75564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tângulo 17"/>
          <p:cNvSpPr/>
          <p:nvPr/>
        </p:nvSpPr>
        <p:spPr>
          <a:xfrm>
            <a:off x="1335240" y="0"/>
            <a:ext cx="269640" cy="75564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Conector reto 18"/>
          <p:cNvSpPr/>
          <p:nvPr/>
        </p:nvSpPr>
        <p:spPr>
          <a:xfrm>
            <a:off x="123840" y="0"/>
            <a:ext cx="0" cy="75564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Conector reto 19"/>
          <p:cNvSpPr/>
          <p:nvPr/>
        </p:nvSpPr>
        <p:spPr>
          <a:xfrm>
            <a:off x="1069920" y="0"/>
            <a:ext cx="0" cy="75564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Conector reto 20"/>
          <p:cNvSpPr/>
          <p:nvPr/>
        </p:nvSpPr>
        <p:spPr>
          <a:xfrm>
            <a:off x="100008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Conector reto 23"/>
          <p:cNvSpPr/>
          <p:nvPr/>
        </p:nvSpPr>
        <p:spPr>
          <a:xfrm>
            <a:off x="2021040" y="0"/>
            <a:ext cx="0" cy="75564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Conector reto 24"/>
          <p:cNvSpPr/>
          <p:nvPr/>
        </p:nvSpPr>
        <p:spPr>
          <a:xfrm>
            <a:off x="1247760" y="0"/>
            <a:ext cx="0" cy="75564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Conector reto 25"/>
          <p:cNvSpPr/>
          <p:nvPr/>
        </p:nvSpPr>
        <p:spPr>
          <a:xfrm>
            <a:off x="1066500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tângulo 26"/>
          <p:cNvSpPr/>
          <p:nvPr/>
        </p:nvSpPr>
        <p:spPr>
          <a:xfrm>
            <a:off x="1427040" y="0"/>
            <a:ext cx="88920" cy="75564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Elipse 27"/>
          <p:cNvSpPr/>
          <p:nvPr/>
        </p:nvSpPr>
        <p:spPr>
          <a:xfrm>
            <a:off x="712800" y="3778200"/>
            <a:ext cx="1515960" cy="1427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Elipse 28"/>
          <p:cNvSpPr/>
          <p:nvPr/>
        </p:nvSpPr>
        <p:spPr>
          <a:xfrm>
            <a:off x="1531800" y="5362560"/>
            <a:ext cx="750960" cy="7063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Elipse 29"/>
          <p:cNvSpPr/>
          <p:nvPr/>
        </p:nvSpPr>
        <p:spPr>
          <a:xfrm>
            <a:off x="1276200" y="6060960"/>
            <a:ext cx="160560" cy="1508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Elipse 30"/>
          <p:cNvSpPr/>
          <p:nvPr/>
        </p:nvSpPr>
        <p:spPr>
          <a:xfrm>
            <a:off x="1947960" y="6377040"/>
            <a:ext cx="320400" cy="3031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Elipse 31"/>
          <p:cNvSpPr/>
          <p:nvPr/>
        </p:nvSpPr>
        <p:spPr>
          <a:xfrm>
            <a:off x="2228760" y="4952880"/>
            <a:ext cx="428760" cy="4032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9163800" y="1280160"/>
            <a:ext cx="2517840" cy="446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8406000" y="4594320"/>
            <a:ext cx="40305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550880" y="5430600"/>
            <a:ext cx="7128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01DF6C-14EA-4339-9A00-556EC011E2F8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74C2F6-21C5-47A0-A6CC-E975AE85DCFE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2"/>
          <p:cNvSpPr/>
          <p:nvPr/>
        </p:nvSpPr>
        <p:spPr>
          <a:xfrm>
            <a:off x="446040" y="0"/>
            <a:ext cx="712800" cy="75564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Retângulo 14"/>
          <p:cNvSpPr/>
          <p:nvPr/>
        </p:nvSpPr>
        <p:spPr>
          <a:xfrm>
            <a:off x="324000" y="0"/>
            <a:ext cx="122040" cy="75564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Retângulo 16"/>
          <p:cNvSpPr/>
          <p:nvPr/>
        </p:nvSpPr>
        <p:spPr>
          <a:xfrm>
            <a:off x="1158840" y="0"/>
            <a:ext cx="212760" cy="75564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tângulo 17"/>
          <p:cNvSpPr/>
          <p:nvPr/>
        </p:nvSpPr>
        <p:spPr>
          <a:xfrm>
            <a:off x="1335240" y="0"/>
            <a:ext cx="269640" cy="75564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Conector reto 18"/>
          <p:cNvSpPr/>
          <p:nvPr/>
        </p:nvSpPr>
        <p:spPr>
          <a:xfrm>
            <a:off x="123840" y="0"/>
            <a:ext cx="0" cy="75564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Conector reto 19"/>
          <p:cNvSpPr/>
          <p:nvPr/>
        </p:nvSpPr>
        <p:spPr>
          <a:xfrm>
            <a:off x="1069920" y="0"/>
            <a:ext cx="0" cy="75564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Conector reto 20"/>
          <p:cNvSpPr/>
          <p:nvPr/>
        </p:nvSpPr>
        <p:spPr>
          <a:xfrm>
            <a:off x="100008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Conector reto 23"/>
          <p:cNvSpPr/>
          <p:nvPr/>
        </p:nvSpPr>
        <p:spPr>
          <a:xfrm>
            <a:off x="2021040" y="0"/>
            <a:ext cx="0" cy="75564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Conector reto 24"/>
          <p:cNvSpPr/>
          <p:nvPr/>
        </p:nvSpPr>
        <p:spPr>
          <a:xfrm>
            <a:off x="1247760" y="0"/>
            <a:ext cx="0" cy="75564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tângulo 25"/>
          <p:cNvSpPr/>
          <p:nvPr/>
        </p:nvSpPr>
        <p:spPr>
          <a:xfrm>
            <a:off x="1427040" y="0"/>
            <a:ext cx="88920" cy="75564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Elipse 26"/>
          <p:cNvSpPr/>
          <p:nvPr/>
        </p:nvSpPr>
        <p:spPr>
          <a:xfrm>
            <a:off x="712800" y="3778200"/>
            <a:ext cx="1515960" cy="1427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Elipse 27"/>
          <p:cNvSpPr/>
          <p:nvPr/>
        </p:nvSpPr>
        <p:spPr>
          <a:xfrm>
            <a:off x="1549440" y="5362560"/>
            <a:ext cx="750960" cy="7063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Elipse 28"/>
          <p:cNvSpPr/>
          <p:nvPr/>
        </p:nvSpPr>
        <p:spPr>
          <a:xfrm>
            <a:off x="1276200" y="6060960"/>
            <a:ext cx="160560" cy="1508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Elipse 29"/>
          <p:cNvSpPr/>
          <p:nvPr/>
        </p:nvSpPr>
        <p:spPr>
          <a:xfrm>
            <a:off x="1947960" y="6381720"/>
            <a:ext cx="320400" cy="301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Elipse 30"/>
          <p:cNvSpPr/>
          <p:nvPr/>
        </p:nvSpPr>
        <p:spPr>
          <a:xfrm>
            <a:off x="2198520" y="4935600"/>
            <a:ext cx="428760" cy="4032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Conector reto 31"/>
          <p:cNvSpPr/>
          <p:nvPr/>
        </p:nvSpPr>
        <p:spPr>
          <a:xfrm>
            <a:off x="10645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9161280" y="1276200"/>
            <a:ext cx="2519280" cy="446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8406000" y="4591080"/>
            <a:ext cx="40305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568520" y="5430600"/>
            <a:ext cx="7128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64D626-3EB2-42F1-B3AD-A099C5226F2F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FE6B9F-7BAB-4E4C-9B45-108C90ECFA09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2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Conector reto 14"/>
          <p:cNvSpPr/>
          <p:nvPr/>
        </p:nvSpPr>
        <p:spPr>
          <a:xfrm>
            <a:off x="731196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Conector reto 17"/>
          <p:cNvSpPr/>
          <p:nvPr/>
        </p:nvSpPr>
        <p:spPr>
          <a:xfrm>
            <a:off x="7245360" y="0"/>
            <a:ext cx="0" cy="75564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Conector reto 1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Retângulo 18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Conector reto 2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Elipse 20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3179AE-4B8D-4D10-8CC9-F7C8CF73BD4C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2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Elipse 14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Conector reto 17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Retângulo 17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Conector reto 19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Conector reto 19"/>
          <p:cNvSpPr/>
          <p:nvPr/>
        </p:nvSpPr>
        <p:spPr>
          <a:xfrm>
            <a:off x="731196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Conector reto 23"/>
          <p:cNvSpPr/>
          <p:nvPr/>
        </p:nvSpPr>
        <p:spPr>
          <a:xfrm>
            <a:off x="7245360" y="0"/>
            <a:ext cx="0" cy="75564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829F4D-6B2C-44C7-AD86-14D285C359ED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"/>
          <p:cNvSpPr/>
          <p:nvPr/>
        </p:nvSpPr>
        <p:spPr>
          <a:xfrm>
            <a:off x="0" y="-793800"/>
            <a:ext cx="10709280" cy="914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4768920" y="5722920"/>
            <a:ext cx="1458720" cy="158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576360" y="23760"/>
            <a:ext cx="9556560" cy="72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2280" bIns="0" anchor="ctr">
            <a:noAutofit/>
          </a:bodyPr>
          <a:p>
            <a:pPr algn="ctr"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4000" spc="-1" strike="noStrike">
                <a:solidFill>
                  <a:srgbClr val="009900"/>
                </a:solidFill>
                <a:latin typeface="Calibri"/>
              </a:rPr>
              <a:t>CONSELHO DE CLASSE PROGNÓSTICO 2023.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Pauta da Reunião: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1. Apresentação pela CTP da síntese dos dados coletados junto aos pais e alunos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2. Participação oral dos representantes de pais/responsáveis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3. Participação oral dos Professores Responsáveis por Turma: 3 min para cada docente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4. Planejamento de ações para o restante do semestre 2023.1 e para a segunda etapa do semestre letivo 2023.2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5. Outros pontos apresentados pela Chefia do 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600" spc="-1" strike="noStrike">
                <a:solidFill>
                  <a:srgbClr val="009900"/>
                </a:solidFill>
                <a:latin typeface="Calibri"/>
              </a:rPr>
              <a:t>                                          </a:t>
            </a:r>
            <a:r>
              <a:rPr b="1" lang="pt-BR" sz="3600" spc="-1" strike="noStrike">
                <a:solidFill>
                  <a:srgbClr val="009900"/>
                </a:solidFill>
                <a:latin typeface="Calibri"/>
              </a:rPr>
              <a:t>Data: </a:t>
            </a:r>
            <a:r>
              <a:rPr b="1" lang="pt-BR" sz="2800" spc="-1" strike="noStrike">
                <a:solidFill>
                  <a:srgbClr val="009900"/>
                </a:solidFill>
                <a:latin typeface="Calibri"/>
              </a:rPr>
              <a:t>19/04/202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Imagem 3" descr=""/>
          <p:cNvPicPr/>
          <p:nvPr/>
        </p:nvPicPr>
        <p:blipFill>
          <a:blip r:embed="rId1"/>
          <a:srcRect l="29811" t="9323" r="31829" b="32054"/>
          <a:stretch/>
        </p:blipFill>
        <p:spPr>
          <a:xfrm>
            <a:off x="309600" y="303120"/>
            <a:ext cx="7632720" cy="4338720"/>
          </a:xfrm>
          <a:prstGeom prst="rect">
            <a:avLst/>
          </a:prstGeom>
          <a:ln w="0">
            <a:noFill/>
          </a:ln>
        </p:spPr>
      </p:pic>
      <p:pic>
        <p:nvPicPr>
          <p:cNvPr id="380" name="Imagem 5" descr=""/>
          <p:cNvPicPr/>
          <p:nvPr/>
        </p:nvPicPr>
        <p:blipFill>
          <a:blip r:embed="rId2"/>
          <a:srcRect l="29811" t="44022" r="31155" b="30857"/>
          <a:stretch/>
        </p:blipFill>
        <p:spPr>
          <a:xfrm>
            <a:off x="4773600" y="4498920"/>
            <a:ext cx="592632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Imagem 3" descr=""/>
          <p:cNvPicPr/>
          <p:nvPr/>
        </p:nvPicPr>
        <p:blipFill>
          <a:blip r:embed="rId1"/>
          <a:srcRect l="29811" t="15307" r="31155" b="20090"/>
          <a:stretch/>
        </p:blipFill>
        <p:spPr>
          <a:xfrm>
            <a:off x="93600" y="15840"/>
            <a:ext cx="7777080" cy="4554720"/>
          </a:xfrm>
          <a:prstGeom prst="rect">
            <a:avLst/>
          </a:prstGeom>
          <a:ln w="0">
            <a:noFill/>
          </a:ln>
        </p:spPr>
      </p:pic>
      <p:pic>
        <p:nvPicPr>
          <p:cNvPr id="383" name="Imagem 5" descr=""/>
          <p:cNvPicPr/>
          <p:nvPr/>
        </p:nvPicPr>
        <p:blipFill>
          <a:blip r:embed="rId2"/>
          <a:srcRect l="29811" t="65557" r="31155" b="21287"/>
          <a:stretch/>
        </p:blipFill>
        <p:spPr>
          <a:xfrm>
            <a:off x="4773600" y="4641840"/>
            <a:ext cx="55450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5" name="Imagem 3" descr=""/>
          <p:cNvPicPr/>
          <p:nvPr/>
        </p:nvPicPr>
        <p:blipFill>
          <a:blip r:embed="rId1"/>
          <a:srcRect l="29811" t="9323" r="31155" b="36841"/>
          <a:stretch/>
        </p:blipFill>
        <p:spPr>
          <a:xfrm>
            <a:off x="236520" y="177840"/>
            <a:ext cx="6769080" cy="4176720"/>
          </a:xfrm>
          <a:prstGeom prst="rect">
            <a:avLst/>
          </a:prstGeom>
          <a:ln w="0">
            <a:noFill/>
          </a:ln>
        </p:spPr>
      </p:pic>
      <p:pic>
        <p:nvPicPr>
          <p:cNvPr id="386" name="Imagem 5" descr=""/>
          <p:cNvPicPr/>
          <p:nvPr/>
        </p:nvPicPr>
        <p:blipFill>
          <a:blip r:embed="rId2"/>
          <a:srcRect l="29811" t="44022" r="31155" b="36841"/>
          <a:stretch/>
        </p:blipFill>
        <p:spPr>
          <a:xfrm>
            <a:off x="4486320" y="4264200"/>
            <a:ext cx="5904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Imagem 3" descr=""/>
          <p:cNvPicPr/>
          <p:nvPr/>
        </p:nvPicPr>
        <p:blipFill>
          <a:blip r:embed="rId1"/>
          <a:srcRect l="29811" t="9323" r="31155" b="36841"/>
          <a:stretch/>
        </p:blipFill>
        <p:spPr>
          <a:xfrm>
            <a:off x="309600" y="393840"/>
            <a:ext cx="7272360" cy="4176720"/>
          </a:xfrm>
          <a:prstGeom prst="rect">
            <a:avLst/>
          </a:prstGeom>
          <a:ln w="0">
            <a:noFill/>
          </a:ln>
        </p:spPr>
      </p:pic>
      <p:pic>
        <p:nvPicPr>
          <p:cNvPr id="389" name="Imagem 5" descr=""/>
          <p:cNvPicPr/>
          <p:nvPr/>
        </p:nvPicPr>
        <p:blipFill>
          <a:blip r:embed="rId2"/>
          <a:srcRect l="29811" t="46412" r="31155" b="36841"/>
          <a:stretch/>
        </p:blipFill>
        <p:spPr>
          <a:xfrm>
            <a:off x="3405240" y="4570560"/>
            <a:ext cx="69850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1" name="Imagem 3" descr=""/>
          <p:cNvPicPr/>
          <p:nvPr/>
        </p:nvPicPr>
        <p:blipFill>
          <a:blip r:embed="rId1"/>
          <a:srcRect l="29811" t="8126" r="30482" b="24877"/>
          <a:stretch/>
        </p:blipFill>
        <p:spPr>
          <a:xfrm>
            <a:off x="249120" y="117360"/>
            <a:ext cx="6904080" cy="4986360"/>
          </a:xfrm>
          <a:prstGeom prst="rect">
            <a:avLst/>
          </a:prstGeom>
          <a:ln w="0">
            <a:noFill/>
          </a:ln>
        </p:spPr>
      </p:pic>
      <p:pic>
        <p:nvPicPr>
          <p:cNvPr id="392" name="Imagem 5" descr=""/>
          <p:cNvPicPr/>
          <p:nvPr/>
        </p:nvPicPr>
        <p:blipFill>
          <a:blip r:embed="rId2"/>
          <a:srcRect l="29811" t="46412" r="30482" b="24877"/>
          <a:stretch/>
        </p:blipFill>
        <p:spPr>
          <a:xfrm>
            <a:off x="4054320" y="4930920"/>
            <a:ext cx="65469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Imagem 3" descr=""/>
          <p:cNvPicPr/>
          <p:nvPr/>
        </p:nvPicPr>
        <p:blipFill>
          <a:blip r:embed="rId1"/>
          <a:srcRect l="29811" t="15307" r="31155" b="35779"/>
          <a:stretch/>
        </p:blipFill>
        <p:spPr>
          <a:xfrm>
            <a:off x="380880" y="465120"/>
            <a:ext cx="7201080" cy="4051440"/>
          </a:xfrm>
          <a:prstGeom prst="rect">
            <a:avLst/>
          </a:prstGeom>
          <a:ln w="0">
            <a:noFill/>
          </a:ln>
        </p:spPr>
      </p:pic>
      <p:pic>
        <p:nvPicPr>
          <p:cNvPr id="395" name="Imagem 5" descr=""/>
          <p:cNvPicPr/>
          <p:nvPr/>
        </p:nvPicPr>
        <p:blipFill>
          <a:blip r:embed="rId2"/>
          <a:srcRect l="30482" t="44018" r="30482" b="29664"/>
          <a:stretch/>
        </p:blipFill>
        <p:spPr>
          <a:xfrm>
            <a:off x="4054320" y="4516560"/>
            <a:ext cx="640872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Imagem 3" descr=""/>
          <p:cNvPicPr/>
          <p:nvPr/>
        </p:nvPicPr>
        <p:blipFill>
          <a:blip r:embed="rId1"/>
          <a:srcRect l="29811" t="9323" r="30482" b="43161"/>
          <a:stretch/>
        </p:blipFill>
        <p:spPr>
          <a:xfrm>
            <a:off x="236520" y="303120"/>
            <a:ext cx="7993080" cy="4195800"/>
          </a:xfrm>
          <a:prstGeom prst="rect">
            <a:avLst/>
          </a:prstGeom>
          <a:ln w="0">
            <a:noFill/>
          </a:ln>
        </p:spPr>
      </p:pic>
      <p:pic>
        <p:nvPicPr>
          <p:cNvPr id="398" name="Imagem 5" descr=""/>
          <p:cNvPicPr/>
          <p:nvPr/>
        </p:nvPicPr>
        <p:blipFill>
          <a:blip r:embed="rId2"/>
          <a:srcRect l="30284" t="49053" r="31356" b="36593"/>
          <a:stretch/>
        </p:blipFill>
        <p:spPr>
          <a:xfrm>
            <a:off x="3478320" y="4521240"/>
            <a:ext cx="691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0" name="Imagem 3" descr=""/>
          <p:cNvPicPr/>
          <p:nvPr/>
        </p:nvPicPr>
        <p:blipFill>
          <a:blip r:embed="rId1"/>
          <a:srcRect l="29811" t="18893" r="31155" b="26074"/>
          <a:stretch/>
        </p:blipFill>
        <p:spPr>
          <a:xfrm>
            <a:off x="309600" y="293760"/>
            <a:ext cx="9504360" cy="3946320"/>
          </a:xfrm>
          <a:prstGeom prst="rect">
            <a:avLst/>
          </a:prstGeom>
          <a:ln w="0">
            <a:noFill/>
          </a:ln>
        </p:spPr>
      </p:pic>
      <p:pic>
        <p:nvPicPr>
          <p:cNvPr id="401" name="Imagem 5" descr=""/>
          <p:cNvPicPr/>
          <p:nvPr/>
        </p:nvPicPr>
        <p:blipFill>
          <a:blip r:embed="rId2"/>
          <a:srcRect l="29811" t="35644" r="31829" b="21287"/>
          <a:stretch/>
        </p:blipFill>
        <p:spPr>
          <a:xfrm>
            <a:off x="309600" y="4240080"/>
            <a:ext cx="95043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3" name="Imagem 3" descr=""/>
          <p:cNvPicPr/>
          <p:nvPr/>
        </p:nvPicPr>
        <p:blipFill>
          <a:blip r:embed="rId1"/>
          <a:srcRect l="29138" t="57183" r="29811" b="5732"/>
          <a:stretch/>
        </p:blipFill>
        <p:spPr>
          <a:xfrm>
            <a:off x="534960" y="1582560"/>
            <a:ext cx="92073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525600" y="0"/>
            <a:ext cx="89168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9900"/>
                </a:solidFill>
                <a:latin typeface="Calibri"/>
              </a:rPr>
              <a:t>AÇÕES DESENVOLVIDAS PELA CT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65240" y="825480"/>
          <a:ext cx="10440720" cy="6950160"/>
        </p:xfrm>
        <a:graphic>
          <a:graphicData uri="http://schemas.openxmlformats.org/drawingml/2006/table">
            <a:tbl>
              <a:tblPr/>
              <a:tblGrid>
                <a:gridCol w="2119320"/>
                <a:gridCol w="2268360"/>
                <a:gridCol w="1589040"/>
                <a:gridCol w="1211400"/>
                <a:gridCol w="1663560"/>
                <a:gridCol w="1589040"/>
              </a:tblGrid>
              <a:tr h="6238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usa/ Medida de Intervenção do P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 da 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ável (ei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odo de Execu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Necessá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os de Avali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16404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9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mover momentos de atividades pedagógicas com as turmas Ingressantes dos Cursos Técnicos Integrados (2023.1), visando à permanência com êxit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em parceria com as coordenaçõ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cursos audiovisu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162240"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94, 21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dividuais. Medida de Intervenção: 0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tendimento pedagógico dos alunos avaliados no Conselho de Classe Deliberativo 2022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(apoio grêmio e coordenaçõ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gistro do quantitativo de atendimento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cesso SEI nº 23486.000023/2023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"/>
          <p:cNvSpPr/>
          <p:nvPr/>
        </p:nvSpPr>
        <p:spPr>
          <a:xfrm>
            <a:off x="0" y="-792000"/>
            <a:ext cx="10709280" cy="914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4768920" y="5722920"/>
            <a:ext cx="1458720" cy="158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689040" y="1230480"/>
            <a:ext cx="8692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2280" bIns="0" anchor="ctr">
            <a:noAutofit/>
          </a:bodyPr>
          <a:p>
            <a:pPr marL="12600">
              <a:lnSpc>
                <a:spcPts val="3285"/>
              </a:lnSpc>
              <a:spcBef>
                <a:spcPts val="488"/>
              </a:spcBef>
              <a:tabLst>
                <a:tab algn="l" pos="0"/>
                <a:tab algn="l" pos="12600"/>
                <a:tab algn="l" pos="1054080"/>
                <a:tab algn="l" pos="2097000"/>
                <a:tab algn="l" pos="3139920"/>
                <a:tab algn="l" pos="4183200"/>
                <a:tab algn="l" pos="5226120"/>
                <a:tab algn="l" pos="6269040"/>
                <a:tab algn="l" pos="7311960"/>
                <a:tab algn="l" pos="8354880"/>
                <a:tab algn="l" pos="9398160"/>
                <a:tab algn="l" pos="10441080"/>
                <a:tab algn="l" pos="10782360"/>
              </a:tabLst>
            </a:pPr>
            <a:r>
              <a:rPr b="1" lang="pt-BR" sz="3200" spc="-1" strike="noStrike">
                <a:solidFill>
                  <a:srgbClr val="00b050"/>
                </a:solidFill>
                <a:latin typeface="Cambria"/>
                <a:ea typeface="Microsoft YaHei"/>
              </a:rPr>
              <a:t>ATRIBUIÇÕES DO C. CLASSE PROGNÓSTIC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601560" y="2495520"/>
            <a:ext cx="979344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spAutoFit/>
          </a:bodyPr>
          <a:p>
            <a:pPr marL="11160" algn="just">
              <a:lnSpc>
                <a:spcPct val="126000"/>
              </a:lnSpc>
              <a:spcBef>
                <a:spcPts val="88"/>
              </a:spcBef>
              <a:tabLst>
                <a:tab algn="l" pos="0"/>
                <a:tab algn="l" pos="46836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agnosticar problemas cotidianos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u não,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que interferem no processo de ensino e aprendizagem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. O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esultados de desempenho acadêmico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devem ser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dentificados e analisados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m vistas à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romoção de condições de recuperação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 eventuai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ficuldades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e defasagen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e aprendizagem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visando à superação da retenção e evasão estudantil em cada etapa do período letivo.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534960" y="303120"/>
            <a:ext cx="891684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36520" y="754200"/>
          <a:ext cx="10369440" cy="5621040"/>
        </p:xfrm>
        <a:graphic>
          <a:graphicData uri="http://schemas.openxmlformats.org/drawingml/2006/table">
            <a:tbl>
              <a:tblPr/>
              <a:tblGrid>
                <a:gridCol w="2104920"/>
                <a:gridCol w="2252880"/>
                <a:gridCol w="1577880"/>
                <a:gridCol w="1203480"/>
                <a:gridCol w="1652400"/>
                <a:gridCol w="1577880"/>
              </a:tblGrid>
              <a:tr h="5032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usa/ Medida de Intervenção do P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 da 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ável (ei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odo de Execu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Necessá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os de Avali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256824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MI9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mover [...] </a:t>
                      </a:r>
                      <a:r>
                        <a:rPr b="1" lang="pt-BR" sz="1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Reuniões de pais no início de cada período letivo para apresentar o período letivo que o filho cursar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ício do 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cursos audiovisu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25495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dividua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I24. Incentivar e acompanhar a participação dos estudantes em programas de monitorias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Projeto Círculos para despert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Quantitativo do atendi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eedback / relato dos estudantes atendid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893960" y="507960"/>
            <a:ext cx="7529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200" spc="-1" strike="noStrike">
                <a:solidFill>
                  <a:srgbClr val="00b050"/>
                </a:solidFill>
                <a:latin typeface="Cambria"/>
                <a:ea typeface="Microsoft YaHei"/>
              </a:rPr>
              <a:t>ATRIBUIÇÕES DO PR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516040" y="5381640"/>
            <a:ext cx="397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260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10h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2516040" y="6305400"/>
            <a:ext cx="39384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t">
            <a:spAutoFit/>
          </a:bodyPr>
          <a:p>
            <a:pPr marL="12600">
              <a:lnSpc>
                <a:spcPct val="101000"/>
              </a:lnSpc>
              <a:spcBef>
                <a:spcPts val="74"/>
              </a:spcBef>
              <a:tabLst>
                <a:tab algn="l" pos="0"/>
                <a:tab algn="l" pos="1260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11h  15h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200160" y="192240"/>
            <a:ext cx="1514520" cy="1353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2" name="Rectangle 5" descr=""/>
          <p:cNvPicPr/>
          <p:nvPr/>
        </p:nvPicPr>
        <p:blipFill>
          <a:blip r:embed="rId2"/>
          <a:stretch/>
        </p:blipFill>
        <p:spPr>
          <a:xfrm>
            <a:off x="1006560" y="993600"/>
            <a:ext cx="8972640" cy="675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534960" y="303120"/>
            <a:ext cx="93520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600" spc="-1" strike="noStrike">
                <a:solidFill>
                  <a:srgbClr val="00b050"/>
                </a:solidFill>
                <a:latin typeface="Cambria"/>
                <a:ea typeface="Microsoft YaHei"/>
              </a:rPr>
              <a:t>Professores Responsáveis por Turma 2023.1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4" name="Imagem 3" descr=""/>
          <p:cNvPicPr/>
          <p:nvPr/>
        </p:nvPicPr>
        <p:blipFill>
          <a:blip r:embed="rId1"/>
          <a:srcRect l="27794" t="15307" r="25774" b="12909"/>
          <a:stretch/>
        </p:blipFill>
        <p:spPr>
          <a:xfrm>
            <a:off x="165240" y="1690560"/>
            <a:ext cx="1000908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65240" y="3201840"/>
          <a:ext cx="10369440" cy="4569120"/>
        </p:xfrm>
        <a:graphic>
          <a:graphicData uri="http://schemas.openxmlformats.org/drawingml/2006/table">
            <a:tbl>
              <a:tblPr/>
              <a:tblGrid>
                <a:gridCol w="1728720"/>
                <a:gridCol w="1727280"/>
                <a:gridCol w="1728720"/>
                <a:gridCol w="1728720"/>
                <a:gridCol w="1727280"/>
                <a:gridCol w="1728720"/>
              </a:tblGrid>
              <a:tr h="7369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ausa/ Medida de Intervenção do P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escrição da a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esponsável (ei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eríodo de Execu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ecursos Necessár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ssos de Avalia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83220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62. Ampliar, acompanhar e avaliar o desenvolvimento de outros programas e ações que favoreçam o sucesso da aprendizagem discent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Professor Responsável por Turma de cada turma e demais docent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stante do semestre 2023.1 e todo o semestre letivo 2023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416" name="Rectangle 1"/>
          <p:cNvSpPr/>
          <p:nvPr/>
        </p:nvSpPr>
        <p:spPr>
          <a:xfrm>
            <a:off x="165240" y="338760"/>
            <a:ext cx="9864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LANEJAMENTO PARA O SEMESTRE LETIVO 2023.2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ome do Professor Responsável por Turma:  ____________________________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urso/ Turma: _________________________________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1.Açã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Realizar uma atividade integrada e interdisciplinar utilizando a Ferramenta Google Mee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) Todas as turmas    (   ) Turma (s) específica (s). Qual (is)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que fator (es) qualitativo (s) para a permanência e êxito esta atividade se relaciona?      (   ) Fator individual     (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) Fator interno à instituição    (    ) Fator externo à instituição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aixaDeTexto 2"/>
          <p:cNvSpPr/>
          <p:nvPr/>
        </p:nvSpPr>
        <p:spPr>
          <a:xfrm>
            <a:off x="453960" y="1762200"/>
            <a:ext cx="9072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rt.45 Os encaminhamentos feitos nas reuniões de Conselho de Classe prognóstico deverão ser levados à turma pelo seu docente representante, pelo Coordenador do Curso ou pela CTP, conforme acordado nas reuniões de Conselho de Class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4960" y="302760"/>
            <a:ext cx="9136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entury Schoolbook"/>
              </a:rPr>
              <a:t>PROFESSOR(A) RESPONSÁVEL POR TURM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34600" y="1763640"/>
            <a:ext cx="956772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entury Schoolbook"/>
              </a:rPr>
              <a:t>Apresentação das ações executadas na etapa 1, bem como, avaliação global da turma e sugestões aos demais docentes de cada turm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3441240"/>
            <a:ext cx="8999280" cy="2087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VAMOS EM FRENTE!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SEGUIMOS COLABORANDO...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ABRAÇOS DA EQUIPE CTP</a:t>
            </a:r>
            <a:endParaRPr b="0" lang="en-US" sz="3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2674440" y="5513400"/>
            <a:ext cx="72234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21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CaixaDeTexto 2" descr=""/>
          <p:cNvPicPr/>
          <p:nvPr/>
        </p:nvPicPr>
        <p:blipFill>
          <a:blip r:embed="rId1"/>
          <a:stretch/>
        </p:blipFill>
        <p:spPr>
          <a:xfrm>
            <a:off x="615960" y="1011240"/>
            <a:ext cx="924732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92040" y="1114560"/>
          <a:ext cx="10071000" cy="6443640"/>
        </p:xfrm>
        <a:graphic>
          <a:graphicData uri="http://schemas.openxmlformats.org/drawingml/2006/table">
            <a:tbl>
              <a:tblPr/>
              <a:tblGrid>
                <a:gridCol w="2014560"/>
                <a:gridCol w="2014560"/>
                <a:gridCol w="2013120"/>
                <a:gridCol w="2014560"/>
                <a:gridCol w="2014200"/>
              </a:tblGrid>
              <a:tr h="1105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4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umento de curso dando mais oportunid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poio e orientação constante dos professores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spaço prático para aplicação das ativ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eocupação que nós pais temos em relação aos transportes (deslocamento) nos dias que eles estudam meio perío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daptação ao sistema de ensino que diferencia do sistema escolar anterior (9º ano) fundamen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 oportunidades dadas a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interação do corpo docente e dis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oportunidade dada aos pais para participação junto a gestão da esco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Gestão atuante visando os alunos e melhoria constante das dependênc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ontualidade e compromi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teração e proximidade constante em diálogos e dúvid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92040" y="1114560"/>
          <a:ext cx="9630000" cy="5894280"/>
        </p:xfrm>
        <a:graphic>
          <a:graphicData uri="http://schemas.openxmlformats.org/drawingml/2006/table">
            <a:tbl>
              <a:tblPr/>
              <a:tblGrid>
                <a:gridCol w="1925640"/>
                <a:gridCol w="1925640"/>
                <a:gridCol w="1927440"/>
                <a:gridCol w="1925640"/>
                <a:gridCol w="1925640"/>
              </a:tblGrid>
              <a:tr h="6404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3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auxílio de alunos em relação à atividades que exigem o uso da internet e acesso aos portais como o Qacadêmico e a disponibilidade de materiais de apoio na biblioteca da esco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os estudantes compreenderem como funcionam os meios de avaliação do campus (como provas) e a questão de organização e otimização de tem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integração de estudantes interessados em projetos do campus e a criação de grupos de estudos inter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riação de mais projetos que envolvam a participação de alunos e a maior divulgação des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centivar os alunos a participar de atividades extracurriculares que irão facilitar na naprendizagem (aulas extras, recorrer aos estudantes mais experientes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96920" y="1114560"/>
          <a:ext cx="10463040" cy="6456240"/>
        </p:xfrm>
        <a:graphic>
          <a:graphicData uri="http://schemas.openxmlformats.org/drawingml/2006/table">
            <a:tbl>
              <a:tblPr/>
              <a:tblGrid>
                <a:gridCol w="2092320"/>
                <a:gridCol w="2092320"/>
                <a:gridCol w="2093760"/>
                <a:gridCol w="2092320"/>
                <a:gridCol w="2092320"/>
              </a:tblGrid>
              <a:tr h="11088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43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ar condição ao aluno de entender o processo educacional como ferramenta de crescimento tanto de ordem cultural e intelectual, quanto de natureza moral, visto que este processo deve formar não apenas um profissional em sua área de atuação, mas também cidadãos responsáveis pela criação de uma sociedade mais equilibrad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siderando o público alvo do IFCE/Caucaia, o deslocamento até a unidade escolar seria um ponto importante. A instabilidade no serviço de transporte escolar afeta o processo de aprendizado – vide horários das rotas, que afetam em especial o horário de término da aula. Do ponto de vista pedagógico, a falta do material didático que ainda não foi entregue aos alunos, vem causando certa perda de referência na assimilação dos conteúdos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devido engajamento da turma no processo educ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devido (e correto gerenciamento) dos recursos envolvidos no bom funcionamento da institui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comprometimento com seu papel de EDUCADOR – não apenas de transmissor de conteú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28520" y="103320"/>
          <a:ext cx="10442520" cy="7335720"/>
        </p:xfrm>
        <a:graphic>
          <a:graphicData uri="http://schemas.openxmlformats.org/drawingml/2006/table">
            <a:tbl>
              <a:tblPr/>
              <a:tblGrid>
                <a:gridCol w="2611440"/>
                <a:gridCol w="2610000"/>
                <a:gridCol w="2611440"/>
                <a:gridCol w="2609640"/>
              </a:tblGrid>
              <a:tr h="6109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ragilidades em relação 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ugestõ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É a transportes escolar nos dias de meio período pois os alunos so tem escolares se estudarem o período to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inda não conheç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interessa pela adaptação ao ens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inda não conheç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ara mim seria ótimo o estudo integral todos os d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207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interesse pela adaptação ao ens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necer mais fardas e melhoria constante nos dependências físic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assessoramento e excesso de atividades no início / fase adaptaçã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necimento de fardas necessárias, alimentação diferenciada e bem nutricional. Fornecer itens de estudo e apoio pedagógico constant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08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unos sem acesso a informações, sem uma rotina fixa de estudos e não presentes em aul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m relação a quantidade de almoço e merenda (alguns alunos que ficam por último na fila acabaram recebendo menos alimento) e melhor cardápio para os lanches da manhã e tarde (mais variado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divulgação de livros [palavra ilegível] para facilitar os estudos e compreens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criação de projetos capazes de conectar o conhecimento e a criatividade dos alunos, incentivando-os ao estudo de maneira dinâmic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128520" y="106200"/>
          <a:ext cx="10442520" cy="7104240"/>
        </p:xfrm>
        <a:graphic>
          <a:graphicData uri="http://schemas.openxmlformats.org/drawingml/2006/table">
            <a:tbl>
              <a:tblPr/>
              <a:tblGrid>
                <a:gridCol w="2611440"/>
                <a:gridCol w="2610000"/>
                <a:gridCol w="2611440"/>
                <a:gridCol w="2609640"/>
              </a:tblGrid>
              <a:tr h="3661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ragilidades em relação 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ugestõ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2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falta de foco no processo educacional que sobre interferência de outros fatores, em especial uso inadequado dos meios de comunicação via intern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rcebo, de forma pontual, indefinição nas decisões relacionadas a algumas questões pedagógicas. Vide caso dos professores de Sociologia e História (1º período de Química), que estiveram ausentes por diversas aulas seguid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enho tomado conhecimento de que o controle de turma por alguns professores tem deixado a desejar. Alunos dispersos, conversas paralelas, uso de celular em sala parecem estar passando despercebido por alguns professor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hecer o aluno, trabalhar com um sistema educacional, criar condições para o engajamento, observar as tendênci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tes de qualquer coisa, um trabalho conjunto entre família e comunidade escolar na conscientização da importância do processo educacional como ferramenta transformadora da sociedade, destacando na prática, casos de sucesso daqueles que já passaram pela instituiçã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52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b050"/>
                </a:solidFill>
                <a:latin typeface="Century Schoolbook"/>
              </a:rPr>
              <a:t>PARTICIPAÇÃO ESTUDANTIL (2023.1)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Imagem 4" descr=""/>
          <p:cNvPicPr/>
          <p:nvPr/>
        </p:nvPicPr>
        <p:blipFill>
          <a:blip r:embed="rId1"/>
          <a:srcRect l="29138" t="20090" r="31155" b="20090"/>
          <a:stretch/>
        </p:blipFill>
        <p:spPr>
          <a:xfrm>
            <a:off x="236520" y="793800"/>
            <a:ext cx="6769080" cy="4424400"/>
          </a:xfrm>
          <a:prstGeom prst="rect">
            <a:avLst/>
          </a:prstGeom>
          <a:ln w="0">
            <a:noFill/>
          </a:ln>
        </p:spPr>
      </p:pic>
      <p:pic>
        <p:nvPicPr>
          <p:cNvPr id="377" name="Imagem 6" descr=""/>
          <p:cNvPicPr/>
          <p:nvPr/>
        </p:nvPicPr>
        <p:blipFill>
          <a:blip r:embed="rId2"/>
          <a:srcRect l="29811" t="57183" r="33177" b="20090"/>
          <a:stretch/>
        </p:blipFill>
        <p:spPr>
          <a:xfrm>
            <a:off x="5349960" y="4210200"/>
            <a:ext cx="476568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24T22:02:27Z</dcterms:created>
  <dc:creator>Katharine Magalhães</dc:creator>
  <dc:description/>
  <cp:keywords>DAEAvQC_sx0 BACRGa6bcSE</cp:keywords>
  <dc:language>en-US</dc:language>
  <cp:lastModifiedBy>Reginaldo</cp:lastModifiedBy>
  <dcterms:modified xsi:type="dcterms:W3CDTF">2023-07-17T11:53:43Z</dcterms:modified>
  <cp:revision>91</cp:revision>
  <dc:subject/>
  <dc:title>Encontro Pedagógico 2020.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0-07-01T00:00:00Z</vt:filetime>
  </property>
  <property fmtid="{D5CDD505-2E9C-101B-9397-08002B2CF9AE}" pid="3" name="Creator">
    <vt:lpwstr>Canva</vt:lpwstr>
  </property>
  <property fmtid="{D5CDD505-2E9C-101B-9397-08002B2CF9AE}" pid="4" name="LastSaved">
    <vt:filetime>2020-09-24T00:00:00Z</vt:filetime>
  </property>
</Properties>
</file>